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12A8-076B-452C-B977-9AA4E9BA1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D267-B965-46F1-8BA4-B2DB79D1F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394-8A42-4C0A-A6A4-B3AC8BAB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213-A453-4A43-9DCB-DE038BFF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F66A-33CC-4F47-B3C1-2C9933B4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CA6-DA75-4A4C-812E-78E6759E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DA4-35F5-4801-9D1E-607D16B8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BB6-B445-4B1E-8D5D-8322D911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6F8-AB48-4D7A-8C73-29E328ED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1BE-55FC-449B-9270-1C119F01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C77-AED4-43FF-9B77-10ECE060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29F-ACE5-4E4D-A57C-517D2C30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705-16C2-4E9C-97CF-974BB10B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1BA-4D72-4707-93AB-902E8D18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3981-9516-4016-B87F-229C76860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-28440" y="0"/>
            <a:ext cx="9144000" cy="760716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4: Imperialis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990720"/>
            <a:ext cx="43434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experience of Imperialism in Af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intersection between race, economics, and control in African imperial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 of Imperialism in Africa using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Magnificent African Cake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and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Things Fall A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990720"/>
            <a:ext cx="380988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idot"/>
              </a:rPr>
              <a:t>Read “India Under British Rule” Due: L5 Fri 12/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idot"/>
              </a:rPr>
              <a:t>Writing Process Portfolio Pre-Writing Check Due: L5 Fri 12/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21:30:30Z</dcterms:created>
  <dc:creator>Technology Department</dc:creator>
  <dc:description/>
  <dc:language>en-US</dc:language>
  <cp:lastModifiedBy>Technology Department</cp:lastModifiedBy>
  <dcterms:modified xsi:type="dcterms:W3CDTF">2013-12-03T19:21:56Z</dcterms:modified>
  <cp:revision>25</cp:revision>
  <dc:subject/>
  <dc:title>PowerPoint Presentation</dc:title>
</cp:coreProperties>
</file>