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616C-B685-4A41-A195-223DAC91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71B-0624-42D9-A6AA-3AE84323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C91-72E1-4D43-97B0-C9309722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24A-25B6-415D-832D-7BF8A02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35A-F69A-46B1-8411-55A6B82C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F26-0496-49FA-A0F0-175983CA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AD1-4132-484C-A5B4-BFFED8B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100-3D76-404D-BFFA-8EF3D0D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EFF-C2C2-419A-9133-1786B759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DCE-42D3-484C-B7C5-80D21FF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8B7-A96A-4872-9C5B-AA9B9C9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50C-0A5A-45BA-91EE-5F83413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4A9-0BE1-4B8A-B330-367B610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DE1-F08A-43C3-AB72-E540CC5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29A2-E1B9-4075-8AD8-5C3550B1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-28440" y="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Imperialis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9907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xperience of Imperialism in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intersection between race, economics, and control in African imperia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 of Imperialism in Africa using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Magnificent African Cak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ings Fall A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990720"/>
            <a:ext cx="380988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Read “India Under British Rule”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Writing Process Portfolio Pre-Writing Check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1:30:30Z</dcterms:created>
  <dc:creator>Technology Department</dc:creator>
  <dc:description/>
  <dc:language>en-US</dc:language>
  <cp:lastModifiedBy>Technology Department</cp:lastModifiedBy>
  <dcterms:modified xsi:type="dcterms:W3CDTF">2013-12-03T19:21:56Z</dcterms:modified>
  <cp:revision>25</cp:revision>
  <dc:subject/>
  <dc:title>PowerPoint Presentation</dc:title>
</cp:coreProperties>
</file>