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09F-C899-4E60-B4D8-8EB81F56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3DE-AE71-4B09-AA3E-B05570D0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2B8-DD82-4462-A06B-04DA6EFA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C6B-648B-477F-AEDA-1A2B891E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3DA4D-27A3-47DB-B5E4-AD0B4B0B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C05A8-D580-486C-AE9F-EC8457E2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63A95-8E15-4DD3-AD46-D04C473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6B756-556F-4517-90D9-37FD7F51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FEE99-20EE-4E88-95DE-A90FE21A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5FCAA-0394-4AB1-B0CE-57BB529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7269E-6142-48F9-AA91-C7BF3EA9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135-2F9F-44E5-8F74-BE58229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E52E2-E1D7-4FDA-A4DC-840649D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C379B-C823-429F-8735-095DBC4F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EBD83-915F-45DA-9572-BE9F169F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41B8-3831-46A3-9303-DBF6456F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8BCA4-59DA-4F0D-8DA8-EEF751BC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CF6-613A-4DBD-9318-4F2C700F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C28-CDF4-4420-A726-CDEC5094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F72-66BA-48AC-BB36-E74F2260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9EC-EA1C-4CAC-8B71-79A7C415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BCB-67BF-4DD2-B7B9-697F1A4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4A3-A36B-4E37-A847-80F7368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755-008B-46F9-8C0B-9623E207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DA2E-48D6-4A4B-86B3-4901C1CDDCB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DF4C-6EC9-4C15-A461-9A5F7532818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90360" y="339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L4: From Industrial Revolution to The Gilded Ag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e Role of Corporations in the Gilde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The Shifting Size and Scope of the National Govern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1743120"/>
            <a:ext cx="601956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xplore the effects of corporations on American society in the Gilded Ag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corporations were good for America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government intervention to rein in corpo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tation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553080" y="1743120"/>
            <a:ext cx="230832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Nothing for now…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Thesis Work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ssign #9 Draft Due: Fri 1/31 by 2:30 for both classes!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So What is The Gilded 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60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fers to the decades between the end of reconstruction and the turn of the century (about 1870 to 190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Defining feature is the creation of the corporation and its consequ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Didot"/>
                <a:ea typeface="Didot"/>
              </a:rPr>
              <a:t>Time in which the government made deliberate decisions about how and when to intervene (and when not to intervene) in economic, political, and personal life in new w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0942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47920" y="3344760"/>
            <a:ext cx="29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Questions fo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ink abo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What’s Is American Society Like Under Corporate Monopolies in the Gilded A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You will travel around to several stations and engage with several document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 at your own pac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notes on how corporations are shaping/influenc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wa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ere Gilded Age corporations good for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should the government’s response to Gilded Age corporation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00:02Z</dcterms:created>
  <dc:creator>Alyson Westby</dc:creator>
  <dc:description/>
  <dc:language>en-US</dc:language>
  <cp:lastModifiedBy>WPS</cp:lastModifiedBy>
  <dcterms:modified xsi:type="dcterms:W3CDTF">2014-01-28T02:44:10Z</dcterms:modified>
  <cp:revision>44</cp:revision>
  <dc:subject/>
  <dc:title>Business, Labor, and Technology in the Gilded Age</dc:title>
</cp:coreProperties>
</file>