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BF7-2986-428D-A291-6AD2947B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51B-7546-4994-9106-116552AE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4A2-23EF-46EF-9D2A-056BE119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428-8BDE-45BF-A1BB-D9E8A984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80F44-9147-46BB-8CD4-5D6A0720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D05D-967C-4467-9211-970F2773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CDE25-E0C2-480C-98CF-C7196969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7E201-A38C-43CC-BE0A-FB00D306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3748A-E032-473A-A921-BE3C091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CB35E-E7EE-49A4-9205-B6079E5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12EA9-5E53-48C1-A942-60D1567A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43D-E768-43C3-9813-1E19DE35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2850B-E796-4488-8387-97233902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18C63-7E5E-43AD-9113-D4FFFE61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B33BF-8176-46F7-AD92-1D8FAF7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8DDC7-E67C-4543-99B2-C2CF1348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D16C2-FB7A-4E48-B68B-33894DE6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8E7-46C6-4E8F-805D-BFE38844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3A4-A2CE-4B13-8325-11135AF0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F5F-57D6-4B03-9166-281478DA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0AC-DB93-4DB2-A34E-9869E7A0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1F6-AD93-4C05-8615-E36A48A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999-8C63-48B0-82C7-367ED528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F11-2795-49A1-B99A-1E6FC32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06B-3A9F-46A0-82F8-785CAA3D4B4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E18B-2A9C-4D76-AB6D-BEF5A93DBE9D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90360" y="3398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L4: From Industrial Revolution to The Gilded Ag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e Role of Corporations in the Gilde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Didot"/>
              </a:rPr>
              <a:t>The Shifting Size and Scope of the National Govern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04920" y="1743120"/>
            <a:ext cx="601956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xplore the effects of corporations on American society in the Gilded Age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corporations were good for America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o evaluate whether government intervention to rein in corporation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tation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553080" y="1743120"/>
            <a:ext cx="2308320" cy="48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Unit Work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Nothing for now…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Thesis Work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ssign #9 Draft Due: Fri 1/31 by 2:30 for both classes!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So What is The Gilded 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00600" y="10663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fers to the decades between the end of reconstruction and the turn of the century (about 1870 to 190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Defining feature is the creation of the corporation and its consequ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Didot"/>
                <a:ea typeface="Didot"/>
              </a:rPr>
              <a:t>Time in which the government made deliberate decisions about how and when to intervene (and when not to intervene) in economic, political, and personal life in new w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0942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1447920" y="3344760"/>
            <a:ext cx="291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Questions for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i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Think abo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dot"/>
                <a:ea typeface="Didot"/>
              </a:rPr>
              <a:t>What’s Is American Society Like Under Corporate Monopolies in the Gilded Ag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23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You will travel around to several stations and engage with several document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 at your own pac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notes on how corporations are shaping/influenc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was American society like under corporate monopolies during the Gilded 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ere Gilded Age corporations good for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What should the government’s response to Gilded Age corporations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0:00:02Z</dcterms:created>
  <dc:creator>Alyson Westby</dc:creator>
  <dc:description/>
  <dc:language>en-US</dc:language>
  <cp:lastModifiedBy>WPS</cp:lastModifiedBy>
  <dcterms:modified xsi:type="dcterms:W3CDTF">2014-01-28T02:44:10Z</dcterms:modified>
  <cp:revision>44</cp:revision>
  <dc:subject/>
  <dc:title>Business, Labor, and Technology in the Gilded Age</dc:title>
</cp:coreProperties>
</file>