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F5D-73FC-488E-8807-7DD366E2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379-50E9-4A99-8408-477D5376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F8E-F040-49B0-AF3B-D0155EDA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28C-78FD-4B98-9EFC-2CE3EBB4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0186D-CF37-4306-A349-26E5D4F6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88539-2EA2-4E8C-A35A-D581C3F4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79315-36C6-410B-83B3-9E142A1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02B19-A43D-41F5-9077-6FF2CDE9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D3DFF-8496-4A8E-A423-C672EF6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6B6C5-B463-4FAF-A008-12CCD3B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98DEF-9480-46FC-93D4-329D212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B0B-69D8-49D9-AC49-BEB95671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1AA0-BB3A-47E6-83C9-1CB1B72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F36F-9E6D-4B87-AF1D-0A807AC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59640-9F8D-44ED-9EDC-7AE8D97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36391-1986-4243-92ED-813571A4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8DAC1-082F-44D8-B823-44299168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62B-E041-4BC7-BDBF-E9678327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296-7A8C-4FBE-9A42-7C07B3F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CF5-9051-4E10-99CD-E8B85D4A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785-59DD-4B36-BFD5-2D826C60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781-8CAD-4CC9-A8CC-928C849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92E-4455-4194-9E1D-DA8FD37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310-1A5A-41A3-9FDE-7DE7C73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CCBC-7C6B-4B70-A8D7-C80A5673A5E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02F4-7914-438D-9C84-26A659C4D002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90360" y="339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L4: From Industrial Revolution to The Gilded Ag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Role of Corporations in the Gilde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The Shifting Size and Scope of the National Govern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1743120"/>
            <a:ext cx="601956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xplore the effects of corporations on American society in the Gilded A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corporations were good for America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government intervention to rein in corpo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tation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553080" y="1743120"/>
            <a:ext cx="230832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Nothing for now…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Thesis Work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ssign #9 Draft Due: Fri 1/31 by 2:30 for both classes!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So What is The Gilded 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fers to the decades between the end of reconstruction and the turn of the century (about 1870 to 19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Defining feature is the creation of the corporation and its consequ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Didot"/>
                <a:ea typeface="Didot"/>
              </a:rPr>
              <a:t>Time in which the government made deliberate decisions about how and when to intervene (and when not to intervene) in economic, political, and personal life in new w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0942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47920" y="3344760"/>
            <a:ext cx="29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Question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What’s Is American Society Like Under Corporate Monopolies in the Gilded A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You will travel around to several stations and engage with several document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 at your own pac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notes on how corporations are shaping/influenc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wa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ere Gilded Age corporations good for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should the government’s response to Gilded Age corporation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00:02Z</dcterms:created>
  <dc:creator>Alyson Westby</dc:creator>
  <dc:description/>
  <dc:language>en-US</dc:language>
  <cp:lastModifiedBy>WPS</cp:lastModifiedBy>
  <dcterms:modified xsi:type="dcterms:W3CDTF">2014-01-28T02:44:10Z</dcterms:modified>
  <cp:revision>44</cp:revision>
  <dc:subject/>
  <dc:title>Business, Labor, and Technology in the Gilded Age</dc:title>
</cp:coreProperties>
</file>