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8BD-942F-4BAF-A485-AE120E2F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F3D-F815-4EC3-94D7-75F5B7B6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504-2BB1-40E3-B57D-B39AAD9A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B43-A0B2-4B40-8035-83F64605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1A547-B828-4309-BBD8-62001BE8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B5D6F-487C-438A-A950-40514B9F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2F3D5-693B-41F2-A4AF-BC4957C0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CD87D-759E-47E7-9939-9DFBFD79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C87DF-817E-4C91-BEA2-4B3037BF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68422-9C4D-47D4-8BD4-2C790306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2F0FA-1D01-4E59-A5DA-47908ED9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D48-78F0-4406-9953-C0FC6000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9B68E-B551-46AF-8EFE-63179C27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09A1F-B308-4134-AB86-75907D1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E2B16-E9CD-4999-9C51-2CBB65AC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4F978-A569-41F0-965E-FE179131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3F044-BD65-4124-B246-3E53B1C7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A03-77A5-4467-9559-2F14FFD2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019-C5A0-47EE-A88F-BBB406F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1C3-8F91-4095-A743-1723976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6BA-9E0B-4003-AA8D-55587104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57A-19D3-48C3-8A4A-A117FB2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FC5-E00F-4BFD-8E13-37FB757B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4F3-802E-4398-B48F-EAB9727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1F1F-58AC-4F3C-8C2E-268D29AADF9A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9293-48F7-4055-A6FD-15B2CEA926F1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90360" y="3398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L4: From Industrial Revolution to The Gilded Ag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e Role of Corporations in the Gilde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The Shifting Size and Scope of the National Govern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04920" y="1743120"/>
            <a:ext cx="601956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xplore the effects of corporations on American society in the Gilded Ag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corporations were good for America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government intervention to rein in corpo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tation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553080" y="1743120"/>
            <a:ext cx="230832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Nothing for now…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Thesis Work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ssign #9 Draft Due: Fri 1/31 by 2:30 for both classes!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So What is The Gilded 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00600" y="10663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fers to the decades between the end of reconstruction and the turn of the century (about 1870 to 190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Defining feature is the creation of the corporation and its consequ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Didot"/>
                <a:ea typeface="Didot"/>
              </a:rPr>
              <a:t>Time in which the government made deliberate decisions about how and when to intervene (and when not to intervene) in economic, political, and personal life in new w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0942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1447920" y="3344760"/>
            <a:ext cx="291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Questions for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ink abo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What’s Is American Society Like Under Corporate Monopolies in the Gilded Ag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23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You will travel around to several stations and engage with several document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 at your own pac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notes on how corporations are shaping/influenc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wa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ere Gilded Age corporations good for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should the government’s response to Gilded Age corporations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0:00:02Z</dcterms:created>
  <dc:creator>Alyson Westby</dc:creator>
  <dc:description/>
  <dc:language>en-US</dc:language>
  <cp:lastModifiedBy>WPS</cp:lastModifiedBy>
  <dcterms:modified xsi:type="dcterms:W3CDTF">2014-01-28T02:44:10Z</dcterms:modified>
  <cp:revision>44</cp:revision>
  <dc:subject/>
  <dc:title>Business, Labor, and Technology in the Gilded Age</dc:title>
</cp:coreProperties>
</file>