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F4F-D3CA-4635-A962-A80ECD75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CB7-4889-40E0-ADAA-E4036A97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FF9-9C46-4E04-9C95-EFAA24C2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C32-9F2D-4054-B2A6-950351F4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445-E029-43DE-8CEF-9635F563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427-DCEE-4CDE-84AC-F5BA9463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50E-57CE-4513-9F11-A878B8F5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D6B-FFD1-4BB6-9B54-E8DC5D20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B8F-8F0E-4053-94E7-0DD0DB8C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C57-F2F0-4F0B-AEBC-88DCF0E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6A2-07C1-4A4C-BDE8-7CAEA17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A12-9DE5-447D-840A-2AAF96EB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15F-8D64-47CE-9712-8E9571E8C89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0" y="85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Didot"/>
                <a:ea typeface="Didot"/>
              </a:rPr>
              <a:t>L21 &amp; L22: The 1960s – Johnson &amp; The Great Society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04920" y="1219320"/>
            <a:ext cx="373356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To evaluate how Johnson redefined the purpose and role of government through his Great Society Program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ecture, Reading/Audio, Discu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267080" y="1219320"/>
            <a:ext cx="4572000" cy="52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Reading on conservatism and the size and scope of the US gov’t in the 1970s.  Choose ONE reading and we will discuss on L23 (G: Mon 3/24; Y: Thurs 3/2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Didot"/>
              </a:rPr>
              <a:t>Writing Portfol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Didot"/>
              </a:rPr>
              <a:t>Thesis Statement &amp; Pre-Writing 2 Due: G: Wed 3/26; Y: Thurs 3/2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’s New Front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21932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romised federal funding for education, medical care for the elderly, economic aid to rural regions, government intervention to half the recession of 1960, and an end to racial discri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ccomplishments of the “New Frontie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tabilized the rec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Passed laws to prohibit racial discrimination in federally supported hou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ent the national guard to Little Rock to enforce integration of the sch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Created the Presidential Commission on the Status of Wo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dot"/>
                <a:ea typeface="Didot"/>
              </a:rPr>
              <a:t>Signed the Equal Pay Act of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683320" y="1143000"/>
            <a:ext cx="3460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Kennedy is Assassin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106668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Kennedy does not have the opportunity to enact much of his New Frontier Program before he is assassin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en Kennedy’s VP Lyndon Johnson takes office he makes it his mission to achieve Kennedy’s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927680" y="1752480"/>
            <a:ext cx="4216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yndon Joh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1908-19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rom Tex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Was a teacher prior to getting involved in poli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irst comes to office by way of succession, but runs on his own and wins election in 1964 by a significant margin over Barry Goldwa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One of only 4 people to be a Representative, Senator, VP, and Presiden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Mixed presidential legacy: impressive civil and economic rights agenda contrasted with the Vietnam dis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5529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7640" y="792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Johnson’s Great Societ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proposed betw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65 and 1968 to deal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variety of social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economic problems fac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Civil Rights, Education, Poverty, Environment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435 bills pushed through Congress dealing with these problem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LBJ able to do so much bec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Landslide Lynd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 1964 election swept Democrats into majority in both houses, enormous mandate for LBJ (61% pop.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Kennedy legacy and assass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1158" t="0" r="1158" b="0"/>
          <a:stretch/>
        </p:blipFill>
        <p:spPr>
          <a:xfrm>
            <a:off x="-4680" y="6094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We will listen to &amp; read a commencement address given by Johnson at the University of Michigan in which he outlines the goals of the Great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As you watch &amp; read take notes on the programs and goals Johnson out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143680" y="182880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egislative Accomplishments of the Great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a look at a list of </a:t>
            </a:r>
            <a:r>
              <a:rPr b="0" i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 of the legislative accomplishments Johnson achieved as part of the Great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Any other programs/goals we want to add to our l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eat Society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philosophy on the role government Johnson articulates through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lated, How does Johnson change the size and scope of the government as a result of this philosop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Johnson’s philosophy on the role of government compare with past er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&amp;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Other Points to Add to Johnson’s Philosophy of Gover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If these didn’t come up, we should also note tha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moves the government to one that reacts to social/economic problems to one that is proactive in dealing with social/economic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How can we stop the problems before they star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Job Training, Head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defines the definition of nee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Needy are not just the disabled and the aged, needy are also the poor (whether they work or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edicaid, HUD and Ren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Broadens the definition of “citizen” – who the government is responsible to: blacks, women, immigrants, the poor –those who do not have a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Exit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Make a diagram/chart/visual metaphor that shows the shift in the role/purpose of government between 1890 and 19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Points on your Graph”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Gilded 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rogressive 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2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oosevelt and the New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195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and the Great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Shifting Size and Scope of the National Government in the 196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The 1960s represents the second wave of government growth and expansion in modern US hi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Made possible by the policies of two p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New Front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yndon B. John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Great Socie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utlines a new philosophy 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he rol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remendous expansion in the siz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and the scop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5605560" y="3276720"/>
            <a:ext cx="356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Recall the following cha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of Government up in the 1930s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77960"/>
          <a:ext cx="8229600" cy="47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11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The Legacy of the New Deal in the 1960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he New Deal introduces another question into the role/function of the United States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Republic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Social Conservative Wing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Questions We Ask about the Role of Government in the 1960s: Democra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163520"/>
          <a:ext cx="8686800" cy="546588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3810240"/>
              </a:tblGrid>
              <a:tr h="960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Should the Government Intervene in the Econom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(Question Introduced by the Gilded Ag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1f497d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Should the Government Intervene in Social Life?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53735"/>
                          </a:solidFill>
                          <a:latin typeface="Didot"/>
                          <a:ea typeface="Didot"/>
                        </a:rPr>
                        <a:t>(Question Introduced by the Progressive Era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Y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Should the Government Intervene to Promote Equality (Economic, Racial, Sex, Sexuality?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9bbb59"/>
                          </a:solidFill>
                          <a:latin typeface="Didot"/>
                          <a:ea typeface="Didot"/>
                        </a:rPr>
                        <a:t>(Question Introduced by the New Deal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1430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1917-19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Senator from Massachusetts before becoming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Youngest person to be elected president (he was 4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First and only Catholic 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Assassinated by Lee Harvey Oswald 3 years into his term as presi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092560" y="1371600"/>
            <a:ext cx="4051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3:49:28Z</dcterms:created>
  <dc:creator>US</dc:creator>
  <dc:description/>
  <dc:language>en-US</dc:language>
  <cp:lastModifiedBy>WPS</cp:lastModifiedBy>
  <dcterms:modified xsi:type="dcterms:W3CDTF">2014-03-18T13:16:05Z</dcterms:modified>
  <cp:revision>43</cp:revision>
  <dc:subject/>
  <dc:title>The Great Society</dc:title>
</cp:coreProperties>
</file>