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46E-679D-4809-B505-7C6C0D06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3D1-A422-4BDB-84FF-DEE0A4A3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58D-535C-4D2D-B5A4-DE07999D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3DF-7243-45E8-8731-19B31836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9A1-9107-4953-9D35-A03F46A9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89A-8D44-4EC5-9A46-25B118B6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B7F-50DF-4978-A157-B68E8346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8B8-1477-4FC7-8B46-C45F263B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FA2-F518-448E-B127-60B7C2F8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98C-891B-42BD-A673-20B2C4DA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C9C-852D-4F5A-B0B2-A37DDDB6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B63-034D-44BA-96EA-452F0FC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8D3D-5F6A-44E1-9EB6-54355ABFD6B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0" y="85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Didot"/>
                <a:ea typeface="Didot"/>
              </a:rPr>
              <a:t>L21 &amp; L22: The 1960s – Johnson &amp; The Great Society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304920" y="1219320"/>
            <a:ext cx="373356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To evaluate how Johnson redefined the purpose and role of government through his Great Society Program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ecture, Reading/Audio, Discus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267080" y="1219320"/>
            <a:ext cx="457200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 on conservatism and the size and scope of the US gov’t in the 1970s.  Choose ONE reading and we will discuss on L23 (G: Mon 3/24; Y: Thurs 3/27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Writing Portfol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sis Statement &amp; Pre-Writing 2 Due: G: Wed 3/26; Y: Thurs 3/2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’s New Front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240" y="121932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romised federal funding for education, medical care for the elderly, economic aid to rural regions, government intervention to half the recession of 1960, and an end to racial discri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ccomplishments of the “New Frontier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tabilized the rec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Passed laws to prohibit racial discrimination in federally supported hou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ent the national guard to Little Rock to enforce integration of the sch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Created the Presidential Commission on the Status of Wo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igned the Equal Pay Act of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683320" y="1143000"/>
            <a:ext cx="3460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 is Assassin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106668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Kennedy does not have the opportunity to enact much of his New Frontier Program before he i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en Kennedy’s VP Lyndon Johnson takes office he makes it his mission to achieve Kennedy’s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4927680" y="1752480"/>
            <a:ext cx="4216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yndon John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219320"/>
            <a:ext cx="4800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1908-197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rom Tex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Was a teacher prior to getting involved in polit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irst comes to office by way of succession, but runs on his own and wins election in 1964 by a significant margin over Barry Goldwa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One of only 4 people to be a Representative, Senator, VP, and Presiden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Mixed presidential legacy: impressive civil and economic rights agenda contrasted with the Vietnam disas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5529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7640" y="7920"/>
            <a:ext cx="91440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Johnson’s Great Society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proposed betwe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65 and 1968 to deal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variety of social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economic problems fac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Civil Rights, Education, Poverty, Environment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435 bills pushed through Congress dealing with these problems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LBJ able to do so much beca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Landslide Lynd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 1964 election swept Democrats into majority in both houses, enormous mandate for LBJ (61% pop. vo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Kennedy legacy and assass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42670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1158" t="0" r="1158" b="0"/>
          <a:stretch/>
        </p:blipFill>
        <p:spPr>
          <a:xfrm>
            <a:off x="-4680" y="60948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We will listen to &amp; read a commencement address given by Johnson at the University of Michigan in which he outlines the goals of the Great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As you watch &amp; read take notes on the programs and goals Johnson outl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143680" y="1828800"/>
            <a:ext cx="40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egislative Accomplishments of the Great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a look at a list of </a:t>
            </a:r>
            <a:r>
              <a:rPr b="0" i="1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 of the legislative accomplishments Johnson achieved as part of the Great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y other programs/goals we want to add to our li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eat Society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philosophy on the role government Johnson articulates through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lated, How does Johnson change the size and scope of the government as a result of this philosop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Johnson’s philosophy on the role of government compare with past er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&amp;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Other Points to Add to Johnson’s Philosophy of Gover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If these didn’t come up, we should also note tha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moves the government to one that reacts to social/economic problems to one that is proactive in dealing with social/economic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How can we stop the problems before they star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Job Training, Head St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defines the definition of nee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Needy are not just the disabled and the aged, needy are also the poor (whether they work or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edicaid, HUD and Ren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Broadens the definition of “citizen” – who the government is responsible to: blacks, women, immigrants, the poor –those who do not have a vo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Exit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Make a diagram/chart/visual metaphor that shows the shift in the role/purpose of government between 1890 and 196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Points on your Graph”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and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and the Great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Shifting Size and Scope of the National Government in the 196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The 1960s represents the second wave of government growth and expansion in modern US histo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Made possible by the policies of two p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New Front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yndon B. John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Great Socie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Outlines a new philosophy 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he rol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remendous expansion in the siz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and the scop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5605560" y="3276720"/>
            <a:ext cx="3568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Recall the following char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of Government up in the 1930s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77960"/>
          <a:ext cx="8229600" cy="472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11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he New Deal introduces another question into the role/function of the United States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Republic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Social Conservative Wing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Democr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1430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1917-19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Senator from Massachusetts before becoming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Youngest person to be elected president (he was 4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First and only Catholic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Assassinated by Lee Harvey Oswald 3 years into his term as pres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092560" y="1371600"/>
            <a:ext cx="4051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3:49:28Z</dcterms:created>
  <dc:creator>US</dc:creator>
  <dc:description/>
  <dc:language>en-US</dc:language>
  <cp:lastModifiedBy>WPS</cp:lastModifiedBy>
  <dcterms:modified xsi:type="dcterms:W3CDTF">2014-03-18T13:16:05Z</dcterms:modified>
  <cp:revision>43</cp:revision>
  <dc:subject/>
  <dc:title>The Great Society</dc:title>
</cp:coreProperties>
</file>