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810-0875-4B08-A794-55F6295C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2ED-5094-422E-A079-2276E75F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E8F-D4DF-4C30-9DC7-A5F1D4C5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256-FCA2-421B-A1A7-8A2D37ED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2405A-4D39-443C-A5D4-2D9C6FD4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A284B-F672-43FC-8103-1C0BF85B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D7CAB-3AEF-4978-AECA-F5A5634B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71375-2FBA-47ED-A7AF-3DB30E1C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DAA9E-29FD-49B2-B4E7-50765F80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FE6CD-EB89-495B-9053-8D689D2A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29D93-CD19-4CBF-9314-ED17F1E3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C8D-E28A-4B34-BA70-C9D1F3FE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5C238-57DC-4E09-A6D4-8B68456C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B55E3-9BEF-443C-BC00-CCB0D742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B56CC-B548-47E4-A450-B618818C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FD0A2-DAF8-471E-A64D-78C8C5D2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7C69F-AD02-4084-96DE-2ED9653F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271-4B79-45AF-9418-CB28DF71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8D5-255D-452F-8954-35BAFED2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AF9-6004-4D29-8C13-DDAB31A8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535-BB4D-48C1-9240-0F61DCD1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321-6341-42B8-842C-31FB5F20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155-21DA-4F5F-BC42-2B7FDDF2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1DF-E02B-425F-B895-1A977E31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1F04-6FC1-4D41-81CB-52A3BF9A8CDE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BE87-37AF-4C0C-95B4-50EFF37E078E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itle 1"/>
          <p:cNvSpPr/>
          <p:nvPr/>
        </p:nvSpPr>
        <p:spPr>
          <a:xfrm>
            <a:off x="90360" y="3398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L4: From Industrial Revolution to The Gilded Age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The Role of Corporations in the Gilded Ag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The Shifting Size and Scope of the National Govern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304920" y="1743120"/>
            <a:ext cx="6019560" cy="48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xplore the effects of corporations on American society in the Gilded Age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valuate whether corporations were good for America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valuate whether government intervention to rein in corporation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Station Work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553080" y="1743120"/>
            <a:ext cx="2308320" cy="48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Unit Work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Nothing for now…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Thesis Work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Assign #9 Draft Due: Fri 1/31 by 2:30 for both classes!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So What is The Gilded 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00600" y="1066320"/>
            <a:ext cx="4191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fers to the decades between the end of reconstruction and the turn of the century (about 1870 to 1900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Defining feature is the creation of the corporation and its consequ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Didot"/>
                <a:ea typeface="Didot"/>
              </a:rPr>
              <a:t>Time in which the government made deliberate decisions about how and when to intervene (and when not to intervene) in economic, political, and personal life in new w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409428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1447920" y="3344760"/>
            <a:ext cx="2913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Questions for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is American society like under corporate monopolies during the Gilded 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Think abou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What’s Is American Society Like Under Corporate Monopolies in the Gilded Ag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235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You will travel around to several stations and engage with several document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ork at your own pace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ake notes on how corporations are shaping/influenc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Consu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Ow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was American society like under corporate monopolies during the Gilded 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ere Gilded Age corporations good for Ame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should the government’s response to Gilded Age corporations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0:00:02Z</dcterms:created>
  <dc:creator>Alyson Westby</dc:creator>
  <dc:description/>
  <dc:language>en-US</dc:language>
  <cp:lastModifiedBy>WPS</cp:lastModifiedBy>
  <dcterms:modified xsi:type="dcterms:W3CDTF">2014-01-28T02:44:10Z</dcterms:modified>
  <cp:revision>44</cp:revision>
  <dc:subject/>
  <dc:title>Business, Labor, and Technology in the Gilded Age</dc:title>
</cp:coreProperties>
</file>