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A6AA-0BA2-49C2-9416-4F84A556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8043-9B5D-43EF-80F6-B3F64E3E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1988-0A7E-4538-A168-8F885A68C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6495-7B35-4E44-AA99-C9B377A2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E9916-C7DE-4F4C-BB7D-9CE68BE1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F0678-61D3-49E4-8688-576C75E6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14F17-49FA-4417-8CB8-935B9BC6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8D03F-269B-435F-BB8D-D8F993CF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6348C-1559-4EC8-B224-5C00F419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65396-AD53-4F12-B4EB-4C25F99D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E5CC1-FFFC-410E-B47D-37187A3F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DC65-81FF-4130-AB3C-043FF392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BC59A-A271-46E1-8B52-2FDD2D43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02D7D-5F86-452D-AC2D-690D4A7A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6548E-D0D6-4A89-B369-3E6505E3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6A78B-DA9C-4F70-9513-E0CDC880A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C1124-82A1-4482-B197-B04FD428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DD44-A944-477F-A3D2-EEAF7733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5030-BE92-410F-979B-330E2668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1567-1DD0-46EA-8BDB-3EF89918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63A7-4F44-4176-BCA7-8EB4CDF4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3BA4-35C2-4EC1-A430-C5CF214B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B628-8F92-4390-9CCD-73348E6F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4364-782A-467A-86B5-761718B7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69F0-8BD9-469D-89FB-7BCFD8DB6B55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0A21-9215-4C90-A96A-6CABDB152C4A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itle 1"/>
          <p:cNvSpPr/>
          <p:nvPr/>
        </p:nvSpPr>
        <p:spPr>
          <a:xfrm>
            <a:off x="90360" y="3398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L4: From Industrial Revolution to The Gilded Age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The Role of Corporations in the Gilded Ag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Didot"/>
              </a:rPr>
              <a:t>The Shifting Size and Scope of the National Governmen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304920" y="1743120"/>
            <a:ext cx="6019560" cy="486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Objectiv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To explore the effects of corporations on American society in the Gilded Age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To evaluate whether corporations were good for America.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To evaluate whether government intervention to rein in corporations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Schedul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Station Work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Whole Class Discussion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Garamon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6553080" y="1743120"/>
            <a:ext cx="2308320" cy="486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Unit Work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Nothing for now…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Thesis Work: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Assign #9 Draft Due: Fri 1/31 by 2:30 for both classes!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So What is The Gilded 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800600" y="1066320"/>
            <a:ext cx="4191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Refers to the decades between the end of reconstruction and the turn of the century (about 1870 to 1900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Defining feature is the creation of the corporation and its consequen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Didot"/>
                <a:ea typeface="Didot"/>
              </a:rPr>
              <a:t>Time in which the government made deliberate decisions about how and when to intervene (and when not to intervene) in economic, political, and personal life in new way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4094280" cy="2743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1447920" y="3344760"/>
            <a:ext cx="2913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Questions for 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hat is American society like under corporate monopolies during the Gilded Ag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Think abou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Work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Ow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Citiz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Other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  <a:ea typeface="Didot"/>
              </a:rPr>
              <a:t>What’s Is American Society Like Under Corporate Monopolies in the Gilded Ag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235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You will travel around to several stations and engage with several document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Work at your own pace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Take notes on how corporations are shaping/influenc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Consu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Wor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Ow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Citiz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Othe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Whole Class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hat was American society like under corporate monopolies during the Gilded Ag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ere Gilded Age corporations good for Americ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hat should the government’s response to Gilded Age corporations b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0:00:02Z</dcterms:created>
  <dc:creator>Alyson Westby</dc:creator>
  <dc:description/>
  <dc:language>en-US</dc:language>
  <cp:lastModifiedBy>WPS</cp:lastModifiedBy>
  <dcterms:modified xsi:type="dcterms:W3CDTF">2014-01-28T02:44:10Z</dcterms:modified>
  <cp:revision>44</cp:revision>
  <dc:subject/>
  <dc:title>Business, Labor, and Technology in the Gilded Age</dc:title>
</cp:coreProperties>
</file>