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1B8-3559-437E-B783-936C8364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E97-01EF-453D-97BB-88AA02CF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E21-F149-4717-8313-54942177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DB7-3717-4A3E-8B21-56F9CF86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061-FFD3-4B68-912A-0B7B5430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3D2-7533-44DF-BCE6-D16C52C8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756-495A-47F8-B6A4-94EC1D91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6A6-7668-4569-8C66-E9EC64DA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75E-DC79-4F30-9FC9-673F131A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43E-3353-4341-A1FB-43C423A7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8E0-7FAE-4A63-B0FE-D4391465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071-799E-465D-9095-E895E23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3F6F-9F87-4BBB-AF0B-B70F1EDA383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itle 1"/>
          <p:cNvSpPr/>
          <p:nvPr/>
        </p:nvSpPr>
        <p:spPr>
          <a:xfrm>
            <a:off x="0" y="85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Didot"/>
                <a:ea typeface="Didot"/>
              </a:rPr>
              <a:t>L21 &amp; L22: The 1960s – Johnson &amp; The Great Society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304920" y="1219320"/>
            <a:ext cx="3733560" cy="52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To evaluate how Johnson redefined the purpose and role of government through his Great Society Program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ecture, Reading/Audio, Discus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267080" y="1219320"/>
            <a:ext cx="4572000" cy="52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Unit 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Reading on conservatism and the size and scope of the US gov’t in the 1970s.  Choose ONE reading and we will discuss on L23 (G: Mon 3/24; Y: Thurs 3/27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Writing Portfol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sis Statement &amp; Pre-Writing 2 Due: G: Wed 3/26; Y: Thurs 3/2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Kennedy’s New Front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240" y="1219320"/>
            <a:ext cx="5334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romised federal funding for education, medical care for the elderly, economic aid to rural regions, government intervention to half the recession of 1960, and an end to racial discri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Accomplishments of the “New Frontier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tabilized the rec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Passed laws to prohibit racial discrimination in federally supported hou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ent the national guard to Little Rock to enforce integration of the sch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Created the Presidential Commission on the Status of Wo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igned the Equal Pay Act of 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683320" y="1143000"/>
            <a:ext cx="3460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Kennedy is Assassin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560" y="106668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Kennedy does not have the opportunity to enact much of his New Frontier Program before he is assassin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en Kennedy’s VP Lyndon Johnson takes office he makes it his mission to achieve Kennedy’s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4927680" y="1752480"/>
            <a:ext cx="4216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yndon John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219320"/>
            <a:ext cx="4800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1908-197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rom Tex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Was a teacher prior to getting involved in polit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irst comes to office by way of succession, but runs on his own and wins election in 1964 by a significant margin over Barry Goldwa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One of only 4 people to be a Representative, Senator, VP, and Presiden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Mixed presidential legacy: impressive civil and economic rights agenda contrasted with the Vietnam disas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5529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7640" y="7920"/>
            <a:ext cx="91440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Johnson’s Great Society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oli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proposed betwe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65 and 1968 to deal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variety of social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economic problems fac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United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Civil Rights, Education, Poverty, Environment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435 bills pushed through Congress dealing with these problems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LBJ able to do so much beca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Landslide Lynd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 1964 election swept Democrats into majority in both houses, enormous mandate for LBJ (61% pop. vo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Kennedy legacy and assass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42670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rcRect l="1158" t="0" r="1158" b="0"/>
          <a:stretch/>
        </p:blipFill>
        <p:spPr>
          <a:xfrm>
            <a:off x="-4680" y="60948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We will listen to &amp; read a commencement address given by Johnson at the University of Michigan in which he outlines the goals of the Great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As you watch &amp; read take notes on the programs and goals Johnson outli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143680" y="1828800"/>
            <a:ext cx="4000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egislative Accomplishments of the Great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a look at a list of </a:t>
            </a:r>
            <a:r>
              <a:rPr b="0" i="1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 of the legislative accomplishments Johnson achieved as part of the Great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Any other programs/goals we want to add to our li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eat Society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philosophy on the role government Johnson articulates through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lated, How does Johnson change the size and scope of the government as a result of this philosop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Johnson’s philosophy on the role of government compare with past er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Gilded 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rogressive 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2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oosevelt &amp; The New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5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Other Points to Add to Johnson’s Philosophy of Gover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If these didn’t come up, we should also note tha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moves the government to one that reacts to social/economic problems to one that is proactive in dealing with social/economic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How can we stop the problems before they star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Job Training, Head St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defines the definition of nee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Needy are not just the disabled and the aged, needy are also the poor (whether they work or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edicaid, HUD and Ren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Broadens the definition of “citizen” – who the government is responsible to: blacks, women, immigrants, the poor –those who do not have a voi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Exit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Make a diagram/chart/visual metaphor that shows the shift in the role/purpose of government between 1890 and 196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Points on your Graph”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Gilded 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rogressive 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2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oosevelt and the New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5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and the Great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Shifting Size and Scope of the National Government in the 1960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The 1960s represents the second wave of government growth and expansion in modern US histo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Made possible by the policies of two p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New Front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yndon B. John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Great Socie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Outlines a new philosophy 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he rol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remendous expansion in the siz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and the scop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5605560" y="3276720"/>
            <a:ext cx="3568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Legacy of the New Deal in the 1960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Recall the following char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of Government up in the 1930s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77960"/>
          <a:ext cx="8229600" cy="4729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11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Legacy of the New Deal in the 1960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he New Deal introduces another question into the role/function of the United States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: Republic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Social Conservative Wing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: Democra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114300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1917-196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Senator from Massachusetts before becoming 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Youngest person to be elected president (he was 4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First and only Catholic 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Assassinated by Lee Harvey Oswald 3 years into his term as pres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092560" y="1371600"/>
            <a:ext cx="4051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3:49:28Z</dcterms:created>
  <dc:creator>US</dc:creator>
  <dc:description/>
  <dc:language>en-US</dc:language>
  <cp:lastModifiedBy>WPS</cp:lastModifiedBy>
  <dcterms:modified xsi:type="dcterms:W3CDTF">2014-03-18T13:16:05Z</dcterms:modified>
  <cp:revision>43</cp:revision>
  <dc:subject/>
  <dc:title>The Great Society</dc:title>
</cp:coreProperties>
</file>