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CB70-54F8-4E2D-AC4E-BB7F5DEB0FD7}"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ne: Star Wa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to approx 11:43 (right before Thatch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2 to 24:00 (right before Sallie Massie to shot of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about the back and forth that happens between Reagan and Gorbachev and some of the stalled and failed negoti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47 –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who SDI is like the island the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wo: The Wall Comes Dow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o 3:00</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at Hungry votes down communism, Poland votes down communism, this sentiment spreads to East Germany—East German leader Egon Krenz meets with Gorbachev to decide what to do with the wal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09-end</a:t>
            </a:r>
            <a:endParaRPr b="0" lang="en-US" sz="1200" spc="-1" strike="noStrike">
              <a:solidFill>
                <a:srgbClr val="000000"/>
              </a:solidFill>
              <a:latin typeface="Arial"/>
            </a:endParaRPr>
          </a:p>
        </p:txBody>
      </p:sp>
      <p:sp>
        <p:nvSpPr>
          <p:cNvPr id="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4510-6B84-4365-8A86-8858AC94D7BE}"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1FECC-BBE4-437E-969E-DD99C41D7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E126-3D15-4157-A27E-0FC78AF10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4979E-EB61-4DBA-8F24-EB0841279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A5AED-E600-4C15-ACFA-A633B643B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5A003-83AE-49DD-A51D-FAF2787C6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0551A-3B01-4CA5-896E-C69B1F912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BB6C2-98EB-4CFE-999F-2DDF57443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344F8-EB7A-4CBE-9D9F-5C98FE573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696AD-7405-4526-9A47-497C09626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6232-CB93-47A4-B7F7-E3B1DBDB4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EF44-36D1-4ECF-8EBE-1B68E4E3B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1FC49-C526-4733-B7E7-C10B3526A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C842-C2D8-4979-9A93-88F2AAEB684E}" type="slidenum">
              <a:rPr b="0" lang="en-US" sz="1400" spc="-1" strike="noStrike">
                <a:solidFill>
                  <a:srgbClr val="000000"/>
                </a:solidFill>
                <a:latin typeface="Arial"/>
                <a:ea typeface="Osaka"/>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12600" y="0"/>
            <a:ext cx="9156600" cy="6858000"/>
          </a:xfrm>
          <a:prstGeom prst="rect">
            <a:avLst/>
          </a:prstGeom>
          <a:ln w="0">
            <a:noFill/>
          </a:ln>
        </p:spPr>
      </p:pic>
      <p:sp>
        <p:nvSpPr>
          <p:cNvPr id="49" name="Title 1"/>
          <p:cNvSpPr/>
          <p:nvPr/>
        </p:nvSpPr>
        <p:spPr>
          <a:xfrm>
            <a:off x="0" y="88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Didot"/>
                <a:ea typeface="Didot"/>
              </a:rPr>
              <a:t>L20: The Cold War Ends 1981-1989</a:t>
            </a:r>
            <a:endParaRPr b="0" lang="en-US" sz="2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Didot"/>
                <a:ea typeface="Didot"/>
              </a:rPr>
              <a:t>American Foreign Policy</a:t>
            </a:r>
            <a:r>
              <a:rPr b="1" i="1" lang="en-US" sz="2800" spc="-1" strike="noStrike" u="sng">
                <a:solidFill>
                  <a:srgbClr val="000000"/>
                </a:solidFill>
                <a:uFillTx/>
                <a:latin typeface="Didot"/>
              </a:rPr>
              <a:t> </a:t>
            </a:r>
            <a:endParaRPr b="0" lang="en-US" sz="2800" spc="-1" strike="noStrike">
              <a:solidFill>
                <a:srgbClr val="000000"/>
              </a:solidFill>
              <a:latin typeface="Garamond"/>
            </a:endParaRPr>
          </a:p>
        </p:txBody>
      </p:sp>
      <p:sp>
        <p:nvSpPr>
          <p:cNvPr id="50" name="Rectangle 12"/>
          <p:cNvSpPr/>
          <p:nvPr/>
        </p:nvSpPr>
        <p:spPr>
          <a:xfrm>
            <a:off x="304920" y="1231920"/>
            <a:ext cx="498312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Agenda</a:t>
            </a: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Objective</a:t>
            </a:r>
            <a:r>
              <a:rPr b="1" lang="en-US" sz="2000" spc="-1" strike="noStrike">
                <a:solidFill>
                  <a:srgbClr val="000000"/>
                </a:solidFill>
                <a:latin typeface="Didot"/>
                <a:ea typeface="Didot"/>
              </a:rPr>
              <a:t>:</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understand the events that brought about the end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US Foreign Policy during the ending phase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the role of the US in bringing about the end of the Cold War.</a:t>
            </a:r>
            <a:endParaRPr b="0" lang="en-US" sz="2000" spc="-1" strike="noStrike">
              <a:solidFill>
                <a:srgbClr val="000000"/>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Schedule</a:t>
            </a:r>
            <a:r>
              <a:rPr b="1" lang="en-US" sz="2000" spc="-1" strike="noStrike">
                <a:solidFill>
                  <a:srgbClr val="000000"/>
                </a:solidFill>
                <a:latin typeface="Didot"/>
                <a:ea typeface="Didot"/>
              </a:rPr>
              <a:t>: </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Video: </a:t>
            </a:r>
            <a:r>
              <a:rPr b="1" i="1" lang="en-US" sz="2000" spc="-1" strike="noStrike">
                <a:solidFill>
                  <a:srgbClr val="000000"/>
                </a:solidFill>
                <a:latin typeface="Didot"/>
                <a:ea typeface="Didot"/>
              </a:rPr>
              <a:t>CNN: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Discussion</a:t>
            </a:r>
            <a:endParaRPr b="0" lang="en-US" sz="2000" spc="-1" strike="noStrike">
              <a:solidFill>
                <a:srgbClr val="000000"/>
              </a:solidFill>
              <a:latin typeface="Garamond"/>
            </a:endParaRPr>
          </a:p>
        </p:txBody>
      </p:sp>
      <p:sp>
        <p:nvSpPr>
          <p:cNvPr id="51" name="Rectangle 12"/>
          <p:cNvSpPr/>
          <p:nvPr/>
        </p:nvSpPr>
        <p:spPr>
          <a:xfrm>
            <a:off x="5521320" y="1231920"/>
            <a:ext cx="334008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ivic Literacy: Last Day Tues 6/1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Facilitation Prep – Cold War Discussion:</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Green: Thurs 5/29</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Yellow: Fri 5/3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65280" y="232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The Cold War Ends</a:t>
            </a:r>
            <a:endParaRPr b="0" lang="en-US" sz="4400" spc="-1" strike="noStrike">
              <a:solidFill>
                <a:srgbClr val="000000"/>
              </a:solidFill>
              <a:latin typeface="Arial"/>
            </a:endParaRPr>
          </a:p>
        </p:txBody>
      </p:sp>
      <p:sp>
        <p:nvSpPr>
          <p:cNvPr id="53" name=""/>
          <p:cNvSpPr txBox="1"/>
          <p:nvPr/>
        </p:nvSpPr>
        <p:spPr>
          <a:xfrm>
            <a:off x="685800" y="1525680"/>
            <a:ext cx="7772400" cy="411480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Between 1981 and 1989, the Cold War entered its final, ending phase.</a:t>
            </a:r>
            <a:endParaRPr b="0" lang="en-US" sz="32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Essential Questions:</a:t>
            </a:r>
            <a:endParaRPr b="0" lang="en-US" sz="32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 did the Cold War end?</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Did US Foreign Policy (particularly SDI) bring about an end to the Cold War?</a:t>
            </a:r>
            <a:endParaRPr b="0" lang="en-US" sz="28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To evaluate this questions we will watch and discuss selections from CNN’s </a:t>
            </a:r>
            <a:r>
              <a:rPr b="0" i="1" lang="en-US" sz="3200" spc="-1" strike="noStrike">
                <a:solidFill>
                  <a:srgbClr val="000000"/>
                </a:solidFill>
                <a:latin typeface="Didot"/>
                <a:ea typeface="Didot"/>
              </a:rPr>
              <a:t>Cold War </a:t>
            </a:r>
            <a:r>
              <a:rPr b="0" lang="en-US" sz="3200" spc="-1" strike="noStrike">
                <a:solidFill>
                  <a:srgbClr val="000000"/>
                </a:solidFill>
                <a:latin typeface="Didot"/>
                <a:ea typeface="Didot"/>
              </a:rPr>
              <a:t>Series (available on Youtu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6:02:51Z</dcterms:created>
  <dc:creator>Technology Department</dc:creator>
  <dc:description/>
  <dc:language>en-US</dc:language>
  <cp:lastModifiedBy>WPS</cp:lastModifiedBy>
  <dcterms:modified xsi:type="dcterms:W3CDTF">2014-05-27T13:24:08Z</dcterms:modified>
  <cp:revision>35</cp:revision>
  <dc:subject/>
  <dc:title>Review of Cold War Experiences (1945-1962)</dc:title>
</cp:coreProperties>
</file>